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4440" y="-360"/>
            <a:ext cx="29401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64320"/>
            <a:ext cx="294012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4440" y="9364320"/>
            <a:ext cx="29401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F6A3-98EC-4F24-BEA2-7EC11B7CF2B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928800" y="739800"/>
            <a:ext cx="4927320" cy="3695760"/>
          </a:xfrm>
          <a:prstGeom prst="rect">
            <a:avLst/>
          </a:prstGeom>
          <a:ln w="0">
            <a:noFill/>
          </a:ln>
        </p:spPr>
      </p:sp>
      <p:sp>
        <p:nvSpPr>
          <p:cNvPr id="69"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on behalf of the membership of the WMSSA I would like to thank  the members of  the senate committee for this opportunity to expand on the issues raised in our submission and to answer any questions that members of the committee may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now like to briefly inform the committee as to what nature of organisation the WMSSA is and then highlight three key issues that the WMSSA regards as important and suggest broad solutions  in the context of the proposed amendment to the EPBC 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MSSA has grown to 150 members over the last 4 years as the awareness of  the impact of invasive plants in this state has incr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MSSA membership incorporates people who are concerned with weeds from agricultural, horticultural and environmental stand points and includes researchers in various weed related areas, government agency workers, agricultural, horticultural and nursery industry representatives, weed control operators, members of environmental groups and interested members of the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ly I believe the WMSSA is able to present a representative view in respect of this legislation as it pertains to invasive plants in South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928800" y="739800"/>
            <a:ext cx="4927320" cy="3695760"/>
          </a:xfrm>
          <a:prstGeom prst="rect">
            <a:avLst/>
          </a:prstGeom>
          <a:ln w="0">
            <a:noFill/>
          </a:ln>
        </p:spPr>
      </p:sp>
      <p:sp>
        <p:nvSpPr>
          <p:cNvPr id="85"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clude the WMSSA supports the proposed amendment as a means of increasing legislative powers to deal with invasive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 context it is hoped that the legislation if passed would provide opportunities to improve border security and increase the likelihood of complementary and nationally consistent state and territory based legislation and investment in research and actions commensurate with the problem at all levels of governme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928800" y="739800"/>
            <a:ext cx="4927320" cy="3695760"/>
          </a:xfrm>
          <a:prstGeom prst="rect">
            <a:avLst/>
          </a:prstGeom>
          <a:ln w="0">
            <a:noFill/>
          </a:ln>
        </p:spPr>
      </p:sp>
      <p:sp>
        <p:nvSpPr>
          <p:cNvPr id="71"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points that we wish to address are (as per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928800" y="739800"/>
            <a:ext cx="4927320" cy="3695760"/>
          </a:xfrm>
          <a:prstGeom prst="rect">
            <a:avLst/>
          </a:prstGeom>
          <a:ln w="0">
            <a:noFill/>
          </a:ln>
        </p:spPr>
      </p:sp>
      <p:sp>
        <p:nvSpPr>
          <p:cNvPr id="73"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A examples of conflict of interest can be found in the nursery industry where garden plants which are or have the potential to be weed species, either to the environment or to agriculture may be promoted through the trade. There is evidence of cooperation from nursery industry bodies to identify and remove these species from sale but more needs to be done to coordinate and rationalise actions at a state and national level. This legislation and the proposed species list, if sufficiently comprehensive and kept up to date, may help achiev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pastoralists, and those serving their needs,  seeking improved pasture species have unwittingly introduced many weed species (</a:t>
            </a:r>
            <a:r>
              <a:rPr b="0" lang="en-AU" sz="1200" spc="-1" strike="noStrike">
                <a:solidFill>
                  <a:srgbClr val="ff0000"/>
                </a:solidFill>
                <a:latin typeface="Times New Roman"/>
              </a:rPr>
              <a:t>SA</a:t>
            </a:r>
            <a:r>
              <a:rPr b="0" lang="en-AU" sz="1200" spc="-1" strike="noStrike">
                <a:solidFill>
                  <a:srgbClr val="000000"/>
                </a:solidFill>
                <a:latin typeface="Times New Roman"/>
              </a:rPr>
              <a:t> </a:t>
            </a:r>
            <a:r>
              <a:rPr b="0" lang="en-AU" sz="1200" spc="-1" strike="noStrike">
                <a:solidFill>
                  <a:srgbClr val="ff0000"/>
                </a:solidFill>
                <a:latin typeface="Times New Roman"/>
              </a:rPr>
              <a:t>Examples?). </a:t>
            </a:r>
            <a:r>
              <a:rPr b="0" lang="en-AU" sz="1200" spc="-1" strike="noStrike">
                <a:solidFill>
                  <a:srgbClr val="000000"/>
                </a:solidFill>
                <a:latin typeface="Times New Roman"/>
              </a:rPr>
              <a:t>More rigorous WRA is required to ensure that we do not introduce species where their ultimate cost far outweigh any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in the horticultural industry in SA we are confronted with a pressing conflict of interest in respective of olives. The interests of the olive industry which produces valuable food products and makes a positive contribution to our economy , needs to be reconciled against the significant damage that olives in the wild, and in urban vegetation communities, cause to the environment and to human health (asthma and increased fire ris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928800" y="739800"/>
            <a:ext cx="4927320" cy="3695760"/>
          </a:xfrm>
          <a:prstGeom prst="rect">
            <a:avLst/>
          </a:prstGeom>
          <a:ln w="0">
            <a:noFill/>
          </a:ln>
        </p:spPr>
      </p:sp>
      <p:sp>
        <p:nvSpPr>
          <p:cNvPr id="75"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MSSA believes it is essential that the proposed legislation recognise the inherent conflict of interest present in the invasive species issue and include mechanisms to deal with these conflicts. The legitimate pursuits of agricultural, horticultural and plant nursery industries need to be balanced against the broader social costs of weed invasion. We are aware that the committee has already received  submissions which spell out the enormous economic and environmental costs of weeds to Australia so I will not repeat them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s lay in the maintenance of a well resourced WRA process, backed by Commonwealth legislation that is broadly understood and supported. Education and awareness raising of the impact of invasive plants throughout industry and media is needed to swing social norms to the point where weeds are regarding in the same context as salinity or smoking ie widely accepted as an important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928800" y="739800"/>
            <a:ext cx="4927320" cy="3695760"/>
          </a:xfrm>
          <a:prstGeom prst="rect">
            <a:avLst/>
          </a:prstGeom>
          <a:ln w="0">
            <a:noFill/>
          </a:ln>
        </p:spPr>
      </p:sp>
      <p:sp>
        <p:nvSpPr>
          <p:cNvPr id="77"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ds in agriculture result in increased costs to consumers and decreased export competitiveness for our producers, both of which have implications for the nation’s economic well be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ds in the environment threaten our natural heritage, sustainability of ecosystems, biodiversity, soil and water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ity of these costs are born by society at large and current and future generations, clearly the problem needs to be addressed using publ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d management is a long term issue in terms of addressing existing existing weeds, and vigilance for new weeds needs to be a perpetual investment in the same vein as national security or public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public funding for weed research and weed actions, especially in SA are short term in nature, and completely out of scale with the cost impacts of the weed problem (</a:t>
            </a:r>
            <a:r>
              <a:rPr b="0" lang="en-US" sz="1200" spc="-1" strike="noStrike">
                <a:solidFill>
                  <a:srgbClr val="ff0000"/>
                </a:solidFill>
                <a:latin typeface="Times New Roman"/>
              </a:rPr>
              <a:t>Example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928800" y="739800"/>
            <a:ext cx="4927320" cy="3695760"/>
          </a:xfrm>
          <a:prstGeom prst="rect">
            <a:avLst/>
          </a:prstGeom>
          <a:ln w="0">
            <a:noFill/>
          </a:ln>
        </p:spPr>
      </p:sp>
      <p:sp>
        <p:nvSpPr>
          <p:cNvPr id="79"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rly the amount invested in weed research and actions needs to be sufficient to at least contain existing weed problems, maintain surveillance for new weeds and to respond to new weed incu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928800" y="739800"/>
            <a:ext cx="4927320" cy="3695760"/>
          </a:xfrm>
          <a:prstGeom prst="rect">
            <a:avLst/>
          </a:prstGeom>
          <a:ln w="0">
            <a:noFill/>
          </a:ln>
        </p:spPr>
      </p:sp>
      <p:sp>
        <p:nvSpPr>
          <p:cNvPr id="81"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ates (eg Victoria) are making the investment to develop and maintain new weed detection and response capacity. Similar capacity is essential for South Australia also, both to address and prevent its own weed problems and to ensure that SA does not become a reservoir of weed species that invest other states and terri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MSSA is aware that other submissions to the inquiry have quantified the cost benefit ratio of weed prevention versus long term weed management and that the returns on effective prevention are substantial, both economically and environmentall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28800" y="739800"/>
            <a:ext cx="4927320" cy="3695760"/>
          </a:xfrm>
          <a:prstGeom prst="rect">
            <a:avLst/>
          </a:prstGeom>
          <a:ln w="0">
            <a:noFill/>
          </a:ln>
        </p:spPr>
      </p:sp>
      <p:sp>
        <p:nvSpPr>
          <p:cNvPr id="83" name="PlaceHolder 2"/>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exclusion of weed species from entry into Australia and in turn SA is essential to prevent new weed inva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llows that SA needs to make the necessary investment into surveillance and response capac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0B587-0163-4C49-9AF4-DED56A6D0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3F118-186E-4862-BD7D-FD7B60C69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F508B-E166-4A2F-A520-D7798CD8A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393F3-7931-4CAB-B431-C9B50EC43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783A9-D569-48E6-99BC-EDFF944EB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0D63A-C836-48C6-AB10-A11FD5417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D04E0-D6AD-4DDD-8736-A227C59D1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ED4F-189A-4CF7-A393-51C7C9D4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ED82C-2B57-4D8A-B7EA-2F221E3B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1EE0-5637-4BBC-8071-628D1777D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12DE-C308-4D54-BC3B-4EA2E7C8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7D87-59AF-4CAC-8FD3-65F4182C8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6CA6-5755-4C14-8928-712A888EA61B}"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99840" y="152280"/>
            <a:ext cx="7162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cc"/>
                </a:solidFill>
                <a:latin typeface="Times New Roman"/>
              </a:rPr>
              <a:t>Weed Management Society of SA</a:t>
            </a:r>
            <a:endParaRPr b="0" lang="en-US" sz="3800" spc="-1" strike="noStrike">
              <a:solidFill>
                <a:srgbClr val="000000"/>
              </a:solidFill>
              <a:latin typeface="Times New Roman"/>
            </a:endParaRPr>
          </a:p>
        </p:txBody>
      </p:sp>
      <p:sp>
        <p:nvSpPr>
          <p:cNvPr id="49" name="PlaceHolder 2"/>
          <p:cNvSpPr>
            <a:spLocks noGrp="1"/>
          </p:cNvSpPr>
          <p:nvPr>
            <p:ph type="subTitle"/>
          </p:nvPr>
        </p:nvSpPr>
        <p:spPr>
          <a:xfrm>
            <a:off x="2133720" y="1066320"/>
            <a:ext cx="6400800" cy="533412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med October 1999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ims to  ‘</a:t>
            </a:r>
            <a:r>
              <a:rPr b="0" i="1" lang="en-US" sz="3200" spc="-1" strike="noStrike">
                <a:solidFill>
                  <a:srgbClr val="000000"/>
                </a:solidFill>
                <a:latin typeface="Times New Roman"/>
              </a:rPr>
              <a:t>minimise the economic, environmental and social impacts of weeds in South Australia’</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s 150</a:t>
            </a:r>
            <a:r>
              <a:rPr b="0" lang="en-US" sz="3200" spc="-1" strike="noStrike">
                <a:solidFill>
                  <a:srgbClr val="ff0000"/>
                </a:solidFill>
                <a:latin typeface="Times New Roman"/>
              </a:rPr>
              <a:t> </a:t>
            </a:r>
            <a:r>
              <a:rPr b="0" lang="en-US" sz="3200" spc="-1" strike="noStrike">
                <a:solidFill>
                  <a:srgbClr val="000000"/>
                </a:solidFill>
                <a:latin typeface="Times New Roman"/>
              </a:rPr>
              <a:t>diverse member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ovt. (state/local), university, industry &amp; community</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ricultural, environmental &amp; sectors</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earchers, managers, volunteers, landowners, students</a:t>
            </a:r>
            <a:endParaRPr b="0" lang="en-US" sz="2800" spc="-1" strike="noStrike">
              <a:solidFill>
                <a:srgbClr val="000000"/>
              </a:solidFill>
              <a:latin typeface="Times New Roman"/>
            </a:endParaRPr>
          </a:p>
          <a:p>
            <a:pPr lvl="1"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 name="Logo" descr=""/>
          <p:cNvPicPr/>
          <p:nvPr/>
        </p:nvPicPr>
        <p:blipFill>
          <a:blip r:embed="rId1"/>
          <a:stretch/>
        </p:blipFill>
        <p:spPr>
          <a:xfrm>
            <a:off x="152280" y="228600"/>
            <a:ext cx="12636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nclusion</a:t>
            </a:r>
            <a:endParaRPr b="0" lang="en-US" sz="4400" spc="-1" strike="noStrike">
              <a:solidFill>
                <a:srgbClr val="000000"/>
              </a:solidFill>
              <a:latin typeface="Times New Roman"/>
            </a:endParaRPr>
          </a:p>
        </p:txBody>
      </p:sp>
      <p:sp>
        <p:nvSpPr>
          <p:cNvPr id="67" name="PlaceHolder 2"/>
          <p:cNvSpPr>
            <a:spLocks noGrp="1"/>
          </p:cNvSpPr>
          <p:nvPr>
            <p:ph/>
          </p:nvPr>
        </p:nvSpPr>
        <p:spPr>
          <a:xfrm>
            <a:off x="304560" y="1295280"/>
            <a:ext cx="8381880" cy="41148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asive species represent a persistent threat to Australia: policy and action, therefore need to also be persistent</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portunity needs to be taken to develop nationally consistent policies and investment to deal with the invasive species risk </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endment to the EPBC Act is a welcome move to raise the legislative profile of invasive species in Australia</a:t>
            </a:r>
            <a:endParaRPr b="0" lang="en-US" sz="32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our submission for specific issues with the Amend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Key Point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MSSA wishes to raise the following issues:</a:t>
            </a:r>
            <a:endParaRPr b="0" lang="en-US" sz="3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s of inter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veillance and incursion respo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t>
            </a:r>
            <a:r>
              <a:rPr b="1" lang="en-US" sz="4400" spc="-1" strike="noStrike">
                <a:solidFill>
                  <a:srgbClr val="3333cc"/>
                </a:solidFill>
                <a:latin typeface="Times New Roman"/>
              </a:rPr>
              <a:t>Weedy” conflicts of interest</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371240"/>
            <a:ext cx="8001000" cy="4724280"/>
          </a:xfrm>
          <a:prstGeom prst="rect">
            <a:avLst/>
          </a:prstGeom>
          <a:noFill/>
          <a:ln w="0">
            <a:noFill/>
          </a:ln>
        </p:spPr>
        <p:txBody>
          <a:bodyPr lIns="90000" rIns="90000" tIns="46800" bIns="46800"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roblem</a:t>
            </a:r>
            <a:r>
              <a:rPr b="0" lang="en-US" sz="3600" spc="-1" strike="noStrike">
                <a:solidFill>
                  <a:srgbClr val="000000"/>
                </a:solidFill>
                <a:latin typeface="Times New Roman"/>
              </a:rPr>
              <a:t>: Invasive economic plants</a:t>
            </a:r>
            <a:endParaRPr b="0" lang="en-US" sz="36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benefits (often short-term) to the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den industr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oralists and grazier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rticulturalists</a:t>
            </a:r>
            <a:endParaRPr b="0" lang="en-US" sz="2800" spc="-1" strike="noStrike">
              <a:solidFill>
                <a:srgbClr val="000000"/>
              </a:solidFill>
              <a:latin typeface="Times New Roman"/>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and environmental costs (long-term) when some plants become weeds</a:t>
            </a:r>
            <a:endParaRPr b="0" lang="en-US" sz="3200" spc="-1" strike="noStrike">
              <a:solidFill>
                <a:srgbClr val="000000"/>
              </a:solidFill>
              <a:latin typeface="Times New Roman"/>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295280"/>
            <a:ext cx="7772400" cy="4648320"/>
          </a:xfrm>
          <a:prstGeom prst="rect">
            <a:avLst/>
          </a:prstGeom>
          <a:noFill/>
          <a:ln w="0">
            <a:noFill/>
          </a:ln>
        </p:spPr>
        <p:txBody>
          <a:bodyPr lIns="90000" rIns="90000" tIns="46800" bIns="4680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Solutions</a:t>
            </a:r>
            <a:r>
              <a:rPr b="0" lang="en-AU" sz="3600" spc="-1" strike="noStrike">
                <a:solidFill>
                  <a:srgbClr val="000000"/>
                </a:solidFill>
                <a:latin typeface="Times New Roman"/>
              </a:rPr>
              <a:t>:</a:t>
            </a:r>
            <a:endParaRPr b="0" lang="en-US" sz="36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Essential that legislation recognise and provide mechanisms to deal with such conflicts of interest</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t grow</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row with strict management</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row with no restrictions</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refer a consistent, national approach</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 EPBC Act for a national list of prohibited garden invasives</a:t>
            </a:r>
            <a:endParaRPr b="0" lang="en-US" sz="2800" spc="-1" strike="noStrike">
              <a:solidFill>
                <a:srgbClr val="000000"/>
              </a:solidFill>
              <a:latin typeface="Times New Roman"/>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t>
            </a:r>
            <a:r>
              <a:rPr b="1" lang="en-US" sz="4400" spc="-1" strike="noStrike">
                <a:solidFill>
                  <a:srgbClr val="3333cc"/>
                </a:solidFill>
                <a:latin typeface="Times New Roman"/>
              </a:rPr>
              <a:t>Weedy” conflicts of inter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problem</a:t>
            </a:r>
            <a:r>
              <a:rPr b="0" lang="en-US" sz="3200" spc="-1" strike="noStrike">
                <a:solidFill>
                  <a:srgbClr val="000000"/>
                </a:solidFill>
                <a:latin typeface="Times New Roman"/>
              </a:rPr>
              <a:t>: Inadequate govt. response relative to the scale of the proble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cost dimensions means that public funding is essenti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ed issues are long term issu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 govt. funding inadequ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l &amp; Plant Control ~$3.5m p.a. (still at 1991 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ful of govt. weed researchers in SA</a:t>
            </a:r>
            <a:endParaRPr b="0" lang="en-US" sz="2400" spc="-1" strike="noStrike">
              <a:solidFill>
                <a:srgbClr val="000000"/>
              </a:solidFill>
              <a:latin typeface="Times New Roman"/>
            </a:endParaRPr>
          </a:p>
        </p:txBody>
      </p:sp>
      <p:sp>
        <p:nvSpPr>
          <p:cNvPr id="58" name="PlaceHolder 2"/>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sourcing weed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914400"/>
            <a:ext cx="8077320" cy="467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0000"/>
          </a:bodyPr>
          <a:p>
            <a:pPr marL="308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lution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govt. investment in weed management across Australia</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nsurate with the cost of the problem</a:t>
            </a:r>
            <a:endParaRPr b="0" lang="en-US" sz="28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egic, effective, long-term investment across the spectrum of the stages of invas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Prevention</a:t>
            </a:r>
            <a:endParaRPr b="0" lang="en-US" sz="2800" spc="-1" strike="noStrike">
              <a:solidFill>
                <a:srgbClr val="000000"/>
              </a:solidFill>
              <a:latin typeface="Times New Roman"/>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Eradication</a:t>
            </a:r>
            <a:r>
              <a:rPr b="0" lang="en-US" sz="2800" spc="-1" strike="noStrike">
                <a:solidFill>
                  <a:srgbClr val="000000"/>
                </a:solidFill>
                <a:latin typeface="Times New Roman"/>
              </a:rPr>
              <a:t>/</a:t>
            </a:r>
            <a:r>
              <a:rPr b="0" i="1" lang="en-US" sz="2800" spc="-1" strike="noStrike">
                <a:solidFill>
                  <a:srgbClr val="000000"/>
                </a:solidFill>
                <a:latin typeface="Times New Roman"/>
              </a:rPr>
              <a:t>Containment</a:t>
            </a:r>
            <a:endParaRPr b="0" lang="en-US" sz="2800" spc="-1" strike="noStrike">
              <a:solidFill>
                <a:srgbClr val="000000"/>
              </a:solidFill>
              <a:latin typeface="Times New Roman"/>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Integrated weed management</a:t>
            </a:r>
            <a:endParaRPr b="0" lang="en-US" sz="2800" spc="-1" strike="noStrike">
              <a:solidFill>
                <a:srgbClr val="000000"/>
              </a:solidFill>
              <a:latin typeface="Times New Roman"/>
            </a:endParaRPr>
          </a:p>
        </p:txBody>
      </p:sp>
      <p:sp>
        <p:nvSpPr>
          <p:cNvPr id="61" name="PlaceHolder 2"/>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sourcing weed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7000"/>
          </a:bodyPr>
          <a:p>
            <a:pPr marL="298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roblem</a:t>
            </a:r>
            <a:r>
              <a:rPr b="0" lang="en-US" sz="3600" spc="-1" strike="noStrike">
                <a:solidFill>
                  <a:srgbClr val="000000"/>
                </a:solidFill>
                <a:latin typeface="Times New Roman"/>
              </a:rPr>
              <a:t>: No pro-active approach to preventing new weed problems in SA</a:t>
            </a:r>
            <a:endParaRPr b="0" lang="en-US" sz="3600" spc="-1" strike="noStrike">
              <a:solidFill>
                <a:srgbClr val="000000"/>
              </a:solidFill>
              <a:latin typeface="Times New Roman"/>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on is clearly the most cost effective means of dealing with the weed problem</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ity of future weeds are here already</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SA has not put in place a formal system to detect and respond to new weed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issue is $ to respond to new incursions, especially for environmental weeds</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2"/>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evention &amp; Surveilla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Solutions</a:t>
            </a:r>
            <a:r>
              <a:rPr b="0" lang="en-AU"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dequate Commonwealth funds to maintain effective border prot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or AQIS and Biosecurity Australi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 Southern Australia Quarantine Strateg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ormal development and maintenance of surveillance systems with trained botani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unds to actually respond to incursions</a:t>
            </a:r>
            <a:endParaRPr b="0" lang="en-US" sz="2800" spc="-1" strike="noStrike">
              <a:solidFill>
                <a:srgbClr val="000000"/>
              </a:solidFill>
              <a:latin typeface="Times New Roman"/>
            </a:endParaRPr>
          </a:p>
        </p:txBody>
      </p:sp>
      <p:sp>
        <p:nvSpPr>
          <p:cNvPr id="65" name="PlaceHolder 2"/>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Prevention &amp; Surveillan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6:38:28Z</dcterms:created>
  <dc:creator>Noel Richards</dc:creator>
  <dc:description/>
  <dc:language>en-US</dc:language>
  <cp:lastModifiedBy>Jenkin</cp:lastModifiedBy>
  <dcterms:modified xsi:type="dcterms:W3CDTF">2005-03-12T05:29:36Z</dcterms:modified>
  <cp:revision>17</cp:revision>
  <dc:subject/>
  <dc:title>Who is the WMSSA?</dc:title>
</cp:coreProperties>
</file>